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17.jpeg" ContentType="image/jpeg"/>
  <Override PartName="/ppt/media/image27.png" ContentType="image/png"/>
  <Override PartName="/ppt/media/image12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C1AC-40A9-40BB-8420-9342E86D9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 mesophyll cell has 30-40 chloroplasts, each about 2-4 microns by 4-7 micron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loroplast has two membranes around a central aqueous space, the str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roma are membranous sacs,  the thylak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ve an internal aqueous space, the thylakoid lumen or thylakoid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lakoids may be stacked into columns called gr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an be explained at a molecular leve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absorbed by clusters of pigment molec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 molecule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ylakoid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y antenna molecule absorbs a photon, it is transmitted from molecule to molecule until it reaches a particular chlorophy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lecule =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ction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reaction center i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electron 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removes an excited electron from the reaction center chlorophyll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tarts the light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ompete with each other, work synergistically using different wavelengths.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08__x0008__x0008__x0008__x0008__x0008__x0008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ccidental that these 2 systems are similar, because both derived from the same primitive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H is an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an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s with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being handed off from one electron carrier to another -- proteins, cytochrome proteins &amp; quinone 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t runs in revers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II absorb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ited electron passes from chlorophyll to the primary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replace electron in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zyme extracts electr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supplies them to the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action split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into 2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combines with another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d to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absorbs light energy (photon)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ves an electron to a higher energy 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handed off down chain from electron acceptor to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ocess has collected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also pumped by Plastoquinone within thylakoid sa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back through ATP synthase to generate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ps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2nd photon -- shot of light energy to excite electron back up to high energy st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ETC drives reduction of NADP to NAD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comes in at 2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TP &amp; NA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hotosystem is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lift electron in 2 stages to a higher energy level. Does work as it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produce ATP -- but producing ATP is not en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need to produce organic molecules for other uses &amp; also need to produce a stable storage molecule for a rainy day (sugars). This is done in Calvin Cyc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of electrons downhill to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 electrons uphill by splitting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9623-0125-4383-8704-BC0F42E76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4AFD-B8CB-4D9F-B4CF-31229B2F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B5CE-BABC-4BCF-A9F0-CCED4C4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F19D-9D69-42AB-9C13-C9754C4EF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49B8-31B8-4F43-84EB-96E2C89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604A-DD50-44C4-B843-E1A8A5B0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968D-E48D-4FAE-A6CE-B578525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2555-6379-431E-AC1E-E3FCB6AE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64F7-EE9F-4FEC-AB6C-D9D1BAFD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1C1A-F1EC-4D15-92EF-31CCDE71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2D55-2437-4D05-AD0C-8BCB9CB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BA51-63F5-4BF8-96E1-43AB681A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7F5-4075-4788-834A-84DD56396CE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0" t="0" r="0" b="11384"/>
          <a:stretch/>
        </p:blipFill>
        <p:spPr>
          <a:xfrm>
            <a:off x="4267080" y="3747960"/>
            <a:ext cx="4775400" cy="3060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0" t="2824" r="6172" b="7059"/>
          <a:stretch/>
        </p:blipFill>
        <p:spPr>
          <a:xfrm>
            <a:off x="4267080" y="409680"/>
            <a:ext cx="4800600" cy="3362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55720" cy="2830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rcRect l="0" t="0" r="4114" b="0"/>
          <a:stretch/>
        </p:blipFill>
        <p:spPr>
          <a:xfrm>
            <a:off x="152280" y="380880"/>
            <a:ext cx="4262400" cy="3556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CB78-4CA9-4035-9123-8DA51B3A1EC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omat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209680" cy="2163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48769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10602" t="36365" r="2056" b="4082"/>
          <a:stretch/>
        </p:blipFill>
        <p:spPr>
          <a:xfrm>
            <a:off x="4040280" y="457200"/>
            <a:ext cx="5103720" cy="4959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ylakoid sac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na stack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hyll &amp; ETC in thylakoid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 built up within thylakoid sa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715000" y="5698080"/>
            <a:ext cx="2666880" cy="780120"/>
            <a:chOff x="5715000" y="5698080"/>
            <a:chExt cx="2666880" cy="780120"/>
          </a:xfrm>
        </p:grpSpPr>
        <p:sp>
          <p:nvSpPr>
            <p:cNvPr id="214" name=""/>
            <p:cNvSpPr/>
            <p:nvPr/>
          </p:nvSpPr>
          <p:spPr>
            <a:xfrm>
              <a:off x="5715000" y="5715000"/>
              <a:ext cx="2666880" cy="76212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6520" y="58647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2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35160" y="60188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7440" y="57139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160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44640" y="569808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096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5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018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7080" y="58665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4120" y="6079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B62-5744-4E4E-A1A5-E9B40B114A7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0" b="3257"/>
          <a:stretch/>
        </p:blipFill>
        <p:spPr>
          <a:xfrm>
            <a:off x="762120" y="1368360"/>
            <a:ext cx="8153280" cy="5337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igment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4343400"/>
            <a:ext cx="4496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hyll &amp; accessory pigmen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tosystem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mbedded in thylakoid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e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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35802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y does this structure make sens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159E-1C8E-487E-A5FA-38C2B740788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Look at 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0" b="3463"/>
          <a:stretch/>
        </p:blipFill>
        <p:spPr>
          <a:xfrm>
            <a:off x="990720" y="1617840"/>
            <a:ext cx="7467480" cy="5163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spectrum of color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73B5-BF13-4A8F-8FC7-26F74C830F8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: absorption spect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nthesis performs work only with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absorbed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wavelengths of 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lorophyll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— the dominant pigment — absorbs best i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wavelengths &amp; least in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gree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ther pigments with different structures have different absorption spectr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0" b="66003"/>
          <a:stretch/>
        </p:blipFill>
        <p:spPr>
          <a:xfrm>
            <a:off x="2286000" y="3886200"/>
            <a:ext cx="4724280" cy="2811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98E-BB1B-4DDA-BCD4-F132A0C65D0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3505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lasts are green because they absorb light wavelengths i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ed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blu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nd reflect 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gree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ack ou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3332" r="0" b="4466"/>
          <a:stretch/>
        </p:blipFill>
        <p:spPr>
          <a:xfrm>
            <a:off x="4343400" y="1676520"/>
            <a:ext cx="4267080" cy="3973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loroplas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75880" y="5866920"/>
            <a:ext cx="364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tructur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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un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0AC7-7172-4250-B4DF-DBAAAB94AA6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stem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0" b="9055"/>
          <a:stretch/>
        </p:blipFill>
        <p:spPr>
          <a:xfrm>
            <a:off x="4951440" y="3733920"/>
            <a:ext cx="4116240" cy="27414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stems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llections of chlorophyll molecu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photosystems in thylakoid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ct as light-gathering “antenna complex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hotosystem 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lorophyll 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68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68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hotosystem 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lorophyll 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70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70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DC61-893B-407C-8566-F02014A1CC0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924360" y="2516040"/>
            <a:ext cx="5219640" cy="3427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nvert solar energy to chemical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es chemic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(NADPH &amp; ATP)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o reduc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o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6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sugars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9AC-3ACE-4903-993A-CAF5992F678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391520" y="6400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902" b="3773"/>
          <a:stretch/>
        </p:blipFill>
        <p:spPr>
          <a:xfrm>
            <a:off x="3630600" y="2666880"/>
            <a:ext cx="5513400" cy="3962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milar to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ETC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in cellular respir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-bound proteins in organel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 accepto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 (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 acros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’s the doubl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embrane?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TP synthas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66B0-BBAE-4A91-BD62-257A6B8E02F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95680" y="327672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0.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9FB-5661-4D37-9579-68ECBA3B6DC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ATP that Jack buil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200400"/>
            <a:ext cx="77724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es the electr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uns the pum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umps the prot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grad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leases the free ener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ows the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c8f0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attach to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at evolution buil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7280" y="1751760"/>
            <a:ext cx="16621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sunligh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23280" y="1720440"/>
            <a:ext cx="4103640" cy="61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eakdown of 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400480"/>
            <a:ext cx="50328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809880" y="2400480"/>
            <a:ext cx="50328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83600" y="137052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280" y="1370520"/>
            <a:ext cx="224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036E-56CA-47AC-B0AE-01F4116D62E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228600" y="12952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31840" y="380160"/>
            <a:ext cx="3378240" cy="52056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Respir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912600"/>
            <a:ext cx="4952880" cy="13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itochondria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ransfer chemical energy from food molecules into chemical energy of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2440" indent="-22392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6840" y="5753520"/>
            <a:ext cx="1778040" cy="4406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e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507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8DD9-9438-4D44-B1C0-0B493E1EC4E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80880" y="1181160"/>
            <a:ext cx="8115480" cy="5600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5660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51400" y="363960"/>
            <a:ext cx="438768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3920" indent="-22392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c8f0f"/>
                </a:solidFill>
                <a:uFillTx/>
                <a:latin typeface="Arial"/>
              </a:rPr>
              <a:t>Chloroplast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transform light energy into chemical energy of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7312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43680" y="6074280"/>
            <a:ext cx="1238400" cy="440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lit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3837-222A-4128-B897-31FD0F2C215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18760" cy="5838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0200" cy="5838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92A9-FAAE-4B97-870A-7EFCA8ADBEE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04920" y="533520"/>
            <a:ext cx="8420040" cy="5811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4CE-6591-40F1-A54C-BF414305736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9920" cy="5845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1266" r="0" b="3786"/>
          <a:stretch/>
        </p:blipFill>
        <p:spPr>
          <a:xfrm>
            <a:off x="272880" y="455760"/>
            <a:ext cx="8710920" cy="5894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209-6CE7-48F4-9390-284505A5B51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TC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TC produces from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 energ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3d1666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PH (stored energy)</a:t>
            </a:r>
            <a:r>
              <a:rPr b="1" lang="en-US" sz="2000" spc="-1" strike="noStrike">
                <a:solidFill>
                  <a:srgbClr val="3d1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es to Calvin cycl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S II absorbs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cited electron passes from chlorophyll to “primary electron acceptor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eed to replace electron in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 extracts electrons from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supplies them to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plits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bines with another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form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leased to atmosphe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d we breathe easi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022-EB2A-4D06-86A3-C5617152F1B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xperimental evide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e tracer =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13520" y="2514240"/>
            <a:ext cx="7896960" cy="1371960"/>
            <a:chOff x="713520" y="2514240"/>
            <a:chExt cx="7896960" cy="1371960"/>
          </a:xfrm>
        </p:grpSpPr>
        <p:grpSp>
          <p:nvGrpSpPr>
            <p:cNvPr id="297" name=""/>
            <p:cNvGrpSpPr/>
            <p:nvPr/>
          </p:nvGrpSpPr>
          <p:grpSpPr>
            <a:xfrm>
              <a:off x="838080" y="2971800"/>
              <a:ext cx="7772400" cy="914400"/>
              <a:chOff x="838080" y="2971800"/>
              <a:chExt cx="7772400" cy="914400"/>
            </a:xfrm>
          </p:grpSpPr>
          <p:sp>
            <p:nvSpPr>
              <p:cNvPr id="298" name=""/>
              <p:cNvSpPr/>
              <p:nvPr/>
            </p:nvSpPr>
            <p:spPr>
              <a:xfrm>
                <a:off x="838080" y="297180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1156320" y="3155760"/>
                <a:ext cx="6742800" cy="727560"/>
                <a:chOff x="1156320" y="3155760"/>
                <a:chExt cx="6742800" cy="727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15632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4844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9600" y="318204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170120" y="3164760"/>
                  <a:ext cx="729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657600" y="315576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911840" y="316152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61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706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5672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713520" y="251424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13520" y="4190760"/>
            <a:ext cx="7896960" cy="1371960"/>
            <a:chOff x="713520" y="4190760"/>
            <a:chExt cx="7896960" cy="1371960"/>
          </a:xfrm>
        </p:grpSpPr>
        <p:grpSp>
          <p:nvGrpSpPr>
            <p:cNvPr id="311" name=""/>
            <p:cNvGrpSpPr/>
            <p:nvPr/>
          </p:nvGrpSpPr>
          <p:grpSpPr>
            <a:xfrm>
              <a:off x="838080" y="4648320"/>
              <a:ext cx="7772400" cy="914400"/>
              <a:chOff x="838080" y="4648320"/>
              <a:chExt cx="777240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838080" y="46483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156320" y="4832280"/>
                <a:ext cx="6743160" cy="727560"/>
                <a:chOff x="1156320" y="4832280"/>
                <a:chExt cx="6743160" cy="727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15632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54844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39600" y="485856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170120" y="48412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657600" y="483228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911840" y="483804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161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706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5672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713520" y="419076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57200" y="5960160"/>
            <a:ext cx="8423280" cy="54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ved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ame from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plants split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DD21-2D90-4357-B7AD-4E9F148D6E1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 Photo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elevate electron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steps (PS II &amp; PS I)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S I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a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S 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ducing power as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610480" y="64310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4C2-1FF8-4FF9-A57E-9BD99E000E6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S 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n’t pass electron to NADP, it cycles back to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S I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makes more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but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ordinates light reactions to Calvin cyc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vin cycle uses more ATP than 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rot="19997400">
            <a:off x="5790960" y="1523520"/>
            <a:ext cx="1981080" cy="610200"/>
          </a:xfrm>
          <a:custGeom>
            <a:avLst/>
            <a:gdLst>
              <a:gd name="textAreaLeft" fmla="*/ 365760 w 1981080"/>
              <a:gd name="textAreaRight" fmla="*/ 1338480 w 1981080"/>
              <a:gd name="textAreaTop" fmla="*/ 81720 h 610200"/>
              <a:gd name="textAreaBottom" fmla="*/ 528480 h 61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6" hR="21600" stAng="10800000" swAng="5400000"/>
                <a:lnTo>
                  <a:pt x="10602" y="0"/>
                </a:lnTo>
                <a:arcTo wR="7986" hR="21600" stAng="-5400000" swAng="2776838"/>
                <a:lnTo>
                  <a:pt x="21143" y="14400"/>
                </a:lnTo>
                <a:lnTo>
                  <a:pt x="17280" y="21600"/>
                </a:lnTo>
                <a:lnTo>
                  <a:pt x="12503" y="14400"/>
                </a:lnTo>
                <a:lnTo>
                  <a:pt x="15515" y="14400"/>
                </a:lnTo>
                <a:arcTo wR="7986" hR="21600" stAng="-2623162" swAng="-2566078"/>
                <a:lnTo>
                  <a:pt x="9294" y="292"/>
                </a:lnTo>
                <a:arcTo wR="7986" hR="21600" stAng="-5610760" swAng="-5189240"/>
                <a:close/>
              </a:path>
              <a:path fill="darkenLess" w="21600" h="21600">
                <a:moveTo>
                  <a:pt x="0" y="21600"/>
                </a:moveTo>
                <a:arcTo wR="7986" hR="21600" stAng="10800000" swAng="5400000"/>
                <a:lnTo>
                  <a:pt x="7986" y="0"/>
                </a:lnTo>
                <a:arcTo wR="7986" hR="21600" stAng="-5400000" swAng="210760"/>
                <a:lnTo>
                  <a:pt x="9294" y="292"/>
                </a:lnTo>
                <a:arcTo wR="7986" hR="21600" stAng="-5610760" swAng="-5189240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72400" y="2971800"/>
            <a:ext cx="121932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310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696-8991-4623-9E9E-D06EB3DD6B0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fe needs a constant input of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t their energy from “eating others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sumers of other organis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sum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Autotroph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t their energy from “self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t their energy from sunl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 light energy to synthesiz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6200000">
            <a:off x="6629040" y="3275640"/>
            <a:ext cx="2133720" cy="2286000"/>
          </a:xfrm>
          <a:custGeom>
            <a:avLst/>
            <a:gdLst>
              <a:gd name="textAreaLeft" fmla="*/ 0 w 2133720"/>
              <a:gd name="textAreaRight" fmla="*/ 2134080 w 213372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w="21600" h="21600">
                <a:moveTo>
                  <a:pt x="2639" y="10920"/>
                </a:moveTo>
                <a:arcTo wR="-8162" hR="-8162" stAng="10749460" swAng="-10768434"/>
                <a:lnTo>
                  <a:pt x="0" y="10860"/>
                </a:lnTo>
                <a:arcTo wR="10800" hR="10800" stAng="10781026" swAng="10768434"/>
                <a:lnTo>
                  <a:pt x="24299" y="10602"/>
                </a:lnTo>
                <a:lnTo>
                  <a:pt x="20339" y="14679"/>
                </a:lnTo>
                <a:lnTo>
                  <a:pt x="16261" y="1072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B11-56CD-4560-951C-731EC8725BF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phosphory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rcRect l="0" t="0" r="0" b="4476"/>
          <a:stretch/>
        </p:blipFill>
        <p:spPr>
          <a:xfrm>
            <a:off x="990720" y="2209680"/>
            <a:ext cx="7173720" cy="4137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106320" y="455508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05720" y="150696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2294-5412-4307-93B2-D7DAB81F6FC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electrons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will the ATP be used for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will the NADPH be used for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92680" y="5866560"/>
            <a:ext cx="449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stay tuned for the Calvin cycl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917F-C1ED-4BBB-B010-375DFD98184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96D-8994-4DD1-9047-A0047AD87FC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nsum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ima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gi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bacter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Autotroph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roduc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hotosynthetic bacteria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blue-green algae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477120" y="1324080"/>
            <a:ext cx="2590560" cy="5076720"/>
            <a:chOff x="6477120" y="1324080"/>
            <a:chExt cx="2590560" cy="50767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18000" t="24000" r="18000" b="24000"/>
            <a:stretch/>
          </p:blipFill>
          <p:spPr>
            <a:xfrm>
              <a:off x="6477120" y="1324080"/>
              <a:ext cx="2590560" cy="157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6477120" y="2927520"/>
              <a:ext cx="2590560" cy="17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6477120" y="4676760"/>
              <a:ext cx="259056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8458200" y="6477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0804-0021-4539-9278-A971170C017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are they connected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16040" y="2285280"/>
            <a:ext cx="7772400" cy="1677240"/>
            <a:chOff x="716040" y="2285280"/>
            <a:chExt cx="7772400" cy="1677240"/>
          </a:xfrm>
        </p:grpSpPr>
        <p:grpSp>
          <p:nvGrpSpPr>
            <p:cNvPr id="122" name=""/>
            <p:cNvGrpSpPr/>
            <p:nvPr/>
          </p:nvGrpSpPr>
          <p:grpSpPr>
            <a:xfrm>
              <a:off x="716040" y="2285280"/>
              <a:ext cx="7772400" cy="871200"/>
              <a:chOff x="716040" y="2285280"/>
              <a:chExt cx="7772400" cy="871200"/>
            </a:xfrm>
          </p:grpSpPr>
          <p:sp>
            <p:nvSpPr>
              <p:cNvPr id="123" name=""/>
              <p:cNvSpPr/>
              <p:nvPr/>
            </p:nvSpPr>
            <p:spPr>
              <a:xfrm>
                <a:off x="716040" y="2286000"/>
                <a:ext cx="7772400" cy="762120"/>
              </a:xfrm>
              <a:prstGeom prst="rect">
                <a:avLst/>
              </a:prstGeom>
              <a:solidFill>
                <a:srgbClr val="ffe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868680" y="2285280"/>
                <a:ext cx="7272000" cy="871200"/>
                <a:chOff x="868680" y="2285280"/>
                <a:chExt cx="7272000" cy="871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68680" y="2285280"/>
                  <a:ext cx="7272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carbon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74920" y="2666520"/>
                  <a:ext cx="1340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716040" y="3048120"/>
              <a:ext cx="7772400" cy="914400"/>
              <a:chOff x="716040" y="3048120"/>
              <a:chExt cx="7772400" cy="914400"/>
            </a:xfrm>
          </p:grpSpPr>
          <p:sp>
            <p:nvSpPr>
              <p:cNvPr id="128" name=""/>
              <p:cNvSpPr/>
              <p:nvPr/>
            </p:nvSpPr>
            <p:spPr>
              <a:xfrm>
                <a:off x="716040" y="30481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895680" y="3238200"/>
                <a:ext cx="7065360" cy="550800"/>
                <a:chOff x="895680" y="3238200"/>
                <a:chExt cx="7065360" cy="5508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895680" y="3241080"/>
                  <a:ext cx="1343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796840" y="32410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402800" y="32410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36600" y="32410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117200" y="3268440"/>
                  <a:ext cx="843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ATP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772080" y="323820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245680" y="32684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365080" y="32684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39840" y="32684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"/>
          <p:cNvSpPr/>
          <p:nvPr/>
        </p:nvSpPr>
        <p:spPr>
          <a:xfrm>
            <a:off x="717480" y="1370880"/>
            <a:ext cx="257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6040" y="5028480"/>
            <a:ext cx="7772400" cy="1677240"/>
            <a:chOff x="716040" y="5028480"/>
            <a:chExt cx="7772400" cy="1677240"/>
          </a:xfrm>
        </p:grpSpPr>
        <p:grpSp>
          <p:nvGrpSpPr>
            <p:cNvPr id="141" name=""/>
            <p:cNvGrpSpPr/>
            <p:nvPr/>
          </p:nvGrpSpPr>
          <p:grpSpPr>
            <a:xfrm>
              <a:off x="716040" y="5028480"/>
              <a:ext cx="7772400" cy="838800"/>
              <a:chOff x="716040" y="5028480"/>
              <a:chExt cx="7772400" cy="838800"/>
            </a:xfrm>
          </p:grpSpPr>
          <p:sp>
            <p:nvSpPr>
              <p:cNvPr id="142" name=""/>
              <p:cNvSpPr/>
              <p:nvPr/>
            </p:nvSpPr>
            <p:spPr>
              <a:xfrm>
                <a:off x="716040" y="5029200"/>
                <a:ext cx="77724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792000" y="5028480"/>
                <a:ext cx="7361640" cy="838800"/>
                <a:chOff x="792000" y="5028480"/>
                <a:chExt cx="7361640" cy="8388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077920" y="5028480"/>
                  <a:ext cx="6075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92000" y="5060520"/>
                  <a:ext cx="1340640" cy="8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carbo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716040" y="5791320"/>
              <a:ext cx="7772400" cy="914400"/>
              <a:chOff x="716040" y="5791320"/>
              <a:chExt cx="7772400" cy="914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16040" y="57913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34280" y="5975280"/>
                <a:ext cx="6743160" cy="727560"/>
                <a:chOff x="1034280" y="5975280"/>
                <a:chExt cx="6743160" cy="727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34280" y="5984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26400" y="5984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17560" y="600156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48080" y="59842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35560" y="597528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89800" y="598104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39040" y="6011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84040" y="6011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34680" y="6011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8" name=""/>
          <p:cNvSpPr/>
          <p:nvPr/>
        </p:nvSpPr>
        <p:spPr>
          <a:xfrm>
            <a:off x="716760" y="419040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Aut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457092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making energy &amp; organic molecules from light ener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" y="1828080"/>
            <a:ext cx="78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energy &amp; organic molecules from ingesting organic molecu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4BD-AA9F-463F-8D44-CFE3399683C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30120" y="2193120"/>
            <a:ext cx="3018240" cy="550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8880" y="4876200"/>
            <a:ext cx="37774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7400" y="3537720"/>
            <a:ext cx="7837560" cy="544680"/>
            <a:chOff x="617400" y="3537720"/>
            <a:chExt cx="7837560" cy="544680"/>
          </a:xfrm>
        </p:grpSpPr>
        <p:sp>
          <p:nvSpPr>
            <p:cNvPr id="166" name=""/>
            <p:cNvSpPr/>
            <p:nvPr/>
          </p:nvSpPr>
          <p:spPr>
            <a:xfrm>
              <a:off x="5790600" y="3565080"/>
              <a:ext cx="1433520" cy="48996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10280" y="3537720"/>
              <a:ext cx="5446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4616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40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76920" y="5715000"/>
            <a:ext cx="1752480" cy="990720"/>
            <a:chOff x="4876920" y="5715000"/>
            <a:chExt cx="1752480" cy="990720"/>
          </a:xfrm>
        </p:grpSpPr>
        <p:sp>
          <p:nvSpPr>
            <p:cNvPr id="171" name=""/>
            <p:cNvSpPr/>
            <p:nvPr/>
          </p:nvSpPr>
          <p:spPr>
            <a:xfrm>
              <a:off x="4876920" y="5715000"/>
              <a:ext cx="1752480" cy="99072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1240" y="59655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15000" y="762120"/>
            <a:ext cx="1752480" cy="990360"/>
            <a:chOff x="5715000" y="762120"/>
            <a:chExt cx="1752480" cy="990360"/>
          </a:xfrm>
        </p:grpSpPr>
        <p:sp>
          <p:nvSpPr>
            <p:cNvPr id="174" name=""/>
            <p:cNvSpPr/>
            <p:nvPr/>
          </p:nvSpPr>
          <p:spPr>
            <a:xfrm>
              <a:off x="5715000" y="762120"/>
              <a:ext cx="1752480" cy="99036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5680" y="990360"/>
              <a:ext cx="77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sun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5105520" y="1371600"/>
            <a:ext cx="1295280" cy="83808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486400"/>
            <a:ext cx="1295280" cy="8380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 rot="5400000">
            <a:off x="1675080" y="2513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 rot="10800000">
            <a:off x="6323400" y="251352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 rot="16200000">
            <a:off x="6171480" y="3733560"/>
            <a:ext cx="1295280" cy="1600200"/>
          </a:xfrm>
          <a:custGeom>
            <a:avLst/>
            <a:gdLst>
              <a:gd name="textAreaLeft" fmla="*/ 360 w 1295280"/>
              <a:gd name="textAreaRight" fmla="*/ 1296000 w 129528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3160" y="3656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-360" y="5562720"/>
            <a:ext cx="3657600" cy="1295280"/>
            <a:chOff x="-360" y="5562720"/>
            <a:chExt cx="3657600" cy="12952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 flipH="1">
              <a:off x="-36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flipH="1">
              <a:off x="1218600" y="5689440"/>
              <a:ext cx="2438280" cy="1067040"/>
            </a:xfrm>
            <a:prstGeom prst="wedgeEllipseCallout">
              <a:avLst>
                <a:gd name="adj1" fmla="val 62041"/>
                <a:gd name="adj2" fmla="val -25300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2880" bIns="18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e Great Circl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of Life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ere’s Mufasa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oper Black"/>
              </a:rPr>
              <a:t>What does the Sun’s Energy do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Comic Sans MS"/>
              </a:rPr>
              <a:t>Chlorophyll, like a sponge, absorbs “quantum” of energy that excites its electro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Comic Sans MS"/>
              </a:rPr>
              <a:t>Rather than releasing the energy as light, it uses it to drive</a:t>
            </a:r>
            <a:r>
              <a:rPr b="1" lang="en-US" sz="3000" spc="-1" strike="noStrike">
                <a:solidFill>
                  <a:srgbClr val="0f116a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f8315"/>
                </a:solidFill>
                <a:latin typeface="Comic Sans MS"/>
              </a:rPr>
              <a:t>PHOTOSYN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1105200" cy="105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0060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648320" y="2743200"/>
            <a:ext cx="1371600" cy="113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362400" y="2590920"/>
            <a:ext cx="113328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057400" y="4809960"/>
            <a:ext cx="1104840" cy="1057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352680" y="5334120"/>
            <a:ext cx="1133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14600" y="1600200"/>
            <a:ext cx="1447920" cy="101268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231120 h 1012680"/>
              <a:gd name="textAreaBottom" fmla="*/ 78156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oes it mean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form it in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or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a stable form to be moved around the plan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also saved for a rainy day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building block atom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 environ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,H,O,N,P,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all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organic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needed for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s, proteins, lipids, nucleic ac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614-BD32-4087-8A32-EDC4719AF72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2000" b="3871"/>
          <a:stretch/>
        </p:blipFill>
        <p:spPr>
          <a:xfrm>
            <a:off x="4951440" y="457200"/>
            <a:ext cx="4192560" cy="6373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btaining raw materia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nligh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eaves = solar collect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omates = gas exchang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tri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10480" y="64310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C2D-618C-4147-B859-AA8837F1B2C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19:13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5-11-29T04:47:15Z</cp:lastPrinted>
  <dcterms:modified xsi:type="dcterms:W3CDTF">2006-11-12T15:34:57Z</dcterms:modified>
  <cp:revision>29</cp:revision>
  <dc:subject>AP &amp; Regents Biology</dc:subject>
  <dc:title>PowerPoint Presentation</dc:title>
</cp:coreProperties>
</file>